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5759-6F5A-46C8-BA5D-517421E80B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ама «Гроз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4751-3C3A-4A0E-BFEA-56E22DD634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C49F-E902-4076-968C-D2DFE5722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F54B-0EDD-4608-B890-0E6AD89DDC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литературы 10 клас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атерина в борьбе за свои человеческие пра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CB72-DCD8-44B2-820C-CA9396EAC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9E25-52DF-4BE6-A159-089169637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698D-D765-4B79-92AB-3082C135E4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68A6-C89B-4E17-A948-71FB059FDF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Жизнь Катерины в родительском дом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4997-B554-4A5B-A92A-2A20EEAD11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Катерины в доме Кабан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E548-184E-4606-BAD6-DA1B0A5A7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 харак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8FF2-D2DB-419F-83EE-D3E01F3F03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46D7-6E94-4641-A1D4-D284FC3A5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C70-F96E-4214-9436-7DD98A5C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403-51D5-4D74-8AD0-D9953279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6B7-AABF-488A-9B39-F90400B7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EB9-ACBE-4FB0-B19E-77200913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33E6-61FA-46E2-AB4C-39FA2B5B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4A16-9A34-4277-A37C-6C26A153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86EE-769C-49C3-8F36-56A01F0E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9704-2661-456C-915B-C6F00694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69A6-30F3-4858-A7C0-4F54D7A5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0BD9-5B82-4473-B98A-C57E857B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0EA1-A97A-4591-8EAA-DADCAA85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25D-9C48-465D-8B9A-289F4697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3424-AF77-4798-AC52-93056C9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D1E0-DEB7-4F90-92D9-91834AE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3B3E-E17E-40FE-BC23-77CCB712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4733-20E9-4909-8F3E-CC239F70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14A4-8AFE-46C3-9540-5D68630A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D5D-42B2-4D9D-AD99-8C8BBC40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AC6-E798-47C0-A620-4B828118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D6B-886A-454E-AA2E-FE94728A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879-CB56-438F-85C1-0B7EE59B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380-CB04-450B-A444-9D8535FF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D9E-3B77-4602-BBFD-FE295B2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F0F-D87C-43B4-B558-655D3111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D11E-2CDE-48E8-AA9A-87A7812BFE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9096-BA70-48D7-9FE8-01A74D9FBA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LEGION</cp:lastModifiedBy>
  <dcterms:modified xsi:type="dcterms:W3CDTF">2015-01-20T13:40:30Z</dcterms:modified>
  <cp:revision>55</cp:revision>
  <dc:subject/>
  <dc:title>Урок-обобщение по экономике для 6 классов</dc:title>
</cp:coreProperties>
</file>